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6D0F-3044-45EE-8C44-890CE366B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74BE-040B-4AEF-B084-FD77EACDF33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66A96-D61E-4933-A615-7959CD8C886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FFE0C-6147-41E2-8663-396C8C0FFEC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204A3-FD2D-43F3-A188-3AA37BAC3D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B876E-742C-4CAE-AFB6-0FC85440C51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D9E22-874F-47F4-AA5D-D3A529CDDB5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6040-8621-411D-AFF0-1F1DCF1AD09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D4777-9884-407B-A40C-322C067E4C5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803FC-AB74-4A4A-8CF8-B8849458D55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713E0-03CF-4D19-A87E-9C17A98C1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08AF-BA85-4CC0-B57F-3391C0D72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25AB-C55F-4280-8374-B17515503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E0553-0FC3-47FC-902C-7589D6AB48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EC417-E213-4062-AEDF-C9B3091357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28046-AD95-4C14-B41E-CA842775A7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ABDB-9586-408D-81C3-992C7913DA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4C1A-93C9-45EC-8BAB-CBEA2EE7DF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99A4B-D1B6-4392-9BD2-C502D6BDD2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0011-7F72-4910-9E7B-7C45870979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B53B-144E-4430-A3ED-6AB2B3F37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5A711-E07E-447D-B279-0AE4514425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A836-E71C-4280-8C2A-5323653C75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E402-85A4-4CB0-B538-5117AB1AD5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D6314-76BE-4866-8460-9E0A22A275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3F01-4BFC-49D9-8A57-91840FAE69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B57-0C59-4B82-821F-5ACFD3704A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461-2BF3-4A88-A5E3-1C0CC298CA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B46-7C8F-4320-A3BC-CA9C6591F7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591-5F00-4961-B9A4-8234D51D33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8C6-3DF4-442B-9546-FD2681F880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6B38-CAFA-41DA-A402-000602BA79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FFA-B4BF-4D16-AC8A-86CF5DADBD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8B9-031F-48C3-93F2-5E52BA667D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FA2-5DAB-4998-BBF8-A521AE5093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858-73C9-41C8-94B5-D10C531804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FF7-79CA-4218-ACA5-47AC2D3F98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045-884C-4D4E-8672-55437D82BD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5DE-4FE8-4FDB-A79A-5E3B141EA9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90B42-296C-4F6B-9C57-9594F6A65E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650A6-CED5-445E-86F4-139D8F6DE3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A967B-65A0-41B5-91CE-952A94D5E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64CA-192E-4CDE-956B-D4A821E18A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3AAF1-2906-44FA-8674-A9C567C36B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B0C2D-1F62-4EEB-9ECD-0D8D6F70FD9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C47D3-7E4E-4C6C-8E60-1A34F7BBF6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F94F5-EC82-4B64-98A4-5C37C296C5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95D75-CEF1-4878-88FA-367F8C0727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A8912-2BFF-4077-9092-343F1CC40B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9CF4C-0BA7-4E92-ACDA-614F34D09E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030AC-7257-4224-8AFA-3B2846441F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C5BB5-9BF8-4CD5-9A46-E2B69F56923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26008-081A-4BE9-B9E7-CC391C780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C0FC-9F9F-4EF0-85E2-42A201842C6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8827E-5627-4812-8FC0-33B31526CFD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70C7B-A8EC-4B89-8839-489757984C9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4ABD2-FE61-49D9-B6FF-60DC4C42238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ACD74-8E95-4EA1-8130-A7F1B70FA9D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81182-8C1F-44D9-A137-2FCCB5ACD86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351BE-6917-4C0B-90A0-B2BCA22AE2A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3AF1A-CD21-4859-97D0-3A42CE7AEC9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901E6-D1F0-4CC1-A27B-42F5EEE171C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50360-C571-46A4-BB2C-CB095B6268E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C280D-E438-420E-A02B-2AD9FBEE3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EEEB-C933-4131-B8A7-30AB1BD1200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1D4C2-605E-4861-956A-33C8754D93F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70E8-2F1D-4943-AAC6-50D6E80E7E0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7059-1084-4625-AB3A-B76109D3E79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8E7D-0B4D-42DC-9FDD-4A47E91830A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0F88-66AF-4529-A415-A2EB0F4809C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2598-FA7A-4D0E-97A1-AFC0EC7FB2C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E656-8B83-4D32-B66A-D01589A530F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99A2-98B4-4F27-891C-9A22731799A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AF2C-539F-41B4-BB8E-AF9AE049ED7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CB1A-B02E-4414-A64C-5AF11ABFC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7FFD6-6518-4E39-95CB-E952DD587A7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F36B-B460-4443-B5C4-5E0C80C822C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638E-97CD-462B-B26A-FD5D15EE5DC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0DD9-3410-4950-A983-9D7EA9218C3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01381E-B826-415D-8409-3E01ABB73F7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8E6F53-AF44-4A8C-B6F8-C9BBBB30AAF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7DE144-4FD8-43E9-8BFB-9BA756A0BA1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604717-B804-47E1-8946-CC24DC191E1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526792-F5D0-4EE9-B4DB-5AEB9E5A419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F36114-339D-4963-8C34-C56B93D9892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9A31E1-310B-44FA-9ED8-143964292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FFEA-2924-49E8-8967-40205854AC7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A39AB4-6657-4499-AF3A-DF88174B461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FD279C-B56D-4273-8405-7A48C8C1BCF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DF3CF3-6656-4760-9A87-43617C5D1EF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F95A68-9F53-4D91-BA92-461A5D9D262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FD4CB9-B9B3-45F1-9A90-49F80207282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80127-3122-4EA1-8771-096A1F25628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381E0-CF61-47FF-BFD1-D6A3524ED90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37B1C-73AC-4210-B029-BD020D6ACB5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9266B-6B12-4832-B6B1-4019F3B63F1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3661D-A396-448F-81E7-CAB8119B4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392A-EEC5-45F2-9161-078F753147F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CD236-583D-40EE-89B1-436A1DFA8E3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351FF-5AFF-40CE-A535-9B6A845ADE1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13813-290E-4ED1-8514-D708EA0AB70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2A4B6-30B2-4725-9994-1819E5A7F60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857FE-EE75-4AF3-9C1D-574524A96EB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08C8A-35A5-4015-B84C-EFCDCAC40B2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CE236-0E8E-44DD-9AFF-8766B22E4ED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009CB-9678-48F9-92AF-F414B031FFC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FB42-3DF2-4704-9FF3-6E99FA442D1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77DE4-FF21-4039-AE02-6928DB818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F4C4-6F3F-466A-819C-EC74A21337A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4d05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E16C-7A63-4897-A7DA-64A4C0D01FD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4d05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6914-4102-4615-999B-AA9BFD8ECFD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DEB6-4497-49E4-BC5C-14F10BD13FD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36D5-074D-4A86-BDEC-E3CC52FF7C3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3DFF-BCE5-40A3-B585-357804A84F4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E250-F24C-42F7-A113-16FCB77855C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39EE-144A-4B32-B8B9-44DA70E7063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60C5-AED4-402A-8D0C-3E279A7903C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Bell Ringer: 10-8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believe the weighing of the heart was an accurate ceremony for truth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you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1065060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5726-FA2D-4EC9-9739-D3BBC44C1F6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11709360" cy="24066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44fe"/>
                </a:solidFill>
                <a:latin typeface="Arial"/>
              </a:rPr>
              <a:t>Houses for wealthy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6120" y="4901760"/>
            <a:ext cx="1117764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4680" indent="-48744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"/>
              </a:rPr>
              <a:t>Made of bricks and sun dried mud called “adob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4680" indent="-4874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only had little w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4680" indent="-4874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2712"/>
                </a:solidFill>
                <a:latin typeface="Arial"/>
              </a:rPr>
              <a:t>Divided into three areas: a reception area, a hall, and the private quar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4680" indent="-4874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</a:rPr>
              <a:t>The windows and doors on the house were covered with mats to keep out the flies, dust, and h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4680" indent="-487440">
              <a:lnSpc>
                <a:spcPct val="80000"/>
              </a:lnSpc>
              <a:spcBef>
                <a:spcPts val="1100"/>
              </a:spcBef>
              <a:buClr>
                <a:srgbClr val="0044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</a:rPr>
              <a:t>Inside had wall hangings made of leather, and the floors were covered with t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4680" indent="-4874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re was a room on the roof with three walls where the family slept on hot summer n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098720" y="1969920"/>
            <a:ext cx="10547280" cy="28530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90" name="Rectangle 4"/>
          <p:cNvSpPr/>
          <p:nvPr/>
        </p:nvSpPr>
        <p:spPr>
          <a:xfrm>
            <a:off x="4639680" y="4775040"/>
            <a:ext cx="2450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ilding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65280" y="0"/>
            <a:ext cx="11709360" cy="162576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44fe"/>
                </a:solidFill>
                <a:latin typeface="Arial"/>
              </a:rPr>
              <a:t>Houses for poor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11368080" cy="40957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 fontScale="89000"/>
          </a:bodyPr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2712"/>
                </a:solidFill>
                <a:latin typeface="Arial"/>
              </a:rPr>
              <a:t>Lived in houses 2-3 stories hig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2712"/>
                </a:solidFill>
                <a:latin typeface="Arial"/>
              </a:rPr>
              <a:t>First Floor : held for busin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2712"/>
                </a:solidFill>
                <a:latin typeface="Arial"/>
              </a:rPr>
              <a:t>Second and Third Floors : the family living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times slept on the roof during the summer to keep coo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271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2712"/>
                </a:solidFill>
                <a:latin typeface="Arial"/>
              </a:rPr>
              <a:t>Sewage had to be thrown out into pits, the river, or the stre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all people had some furni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ngs you find in a commoners house : A stool, small boxes for jewelry and cosmetics, chests for clothing, pottery jars, and oil lamp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of Egyptians did not have many belongings that had to be hidden so a chest or basket would use plenty of their sp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les were rarely us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home had a fly catch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1279440" y="5803920"/>
            <a:ext cx="10139400" cy="31035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394" name="Rectangle 4"/>
          <p:cNvSpPr/>
          <p:nvPr/>
        </p:nvSpPr>
        <p:spPr>
          <a:xfrm>
            <a:off x="3611520" y="8970840"/>
            <a:ext cx="423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yptians bringing in furni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Bell Ringer 10-10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pharaoh do you believe is most important to Ancient Egyp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065060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251E-2BEB-4278-88CA-88A14E102D5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 19: Journal/App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 20: Daily life 2 c-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1065060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D493-D56E-48CE-90E2-06D8A13DD05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7640" y="1425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cient Egyptian </a:t>
            </a:r>
            <a:r>
              <a:rPr b="0" lang="en-US" sz="6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Clothing</a:t>
            </a:r>
            <a:r>
              <a:rPr b="0" lang="en-US" sz="6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2712"/>
                </a:solidFill>
                <a:latin typeface="Arial Bold"/>
                <a:ea typeface="Arial Bold"/>
              </a:rPr>
              <a:t>Main piece of clothing:  Tunic or a long t-shir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7696080" y="3683160"/>
            <a:ext cx="426744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7640" y="220320"/>
            <a:ext cx="11709360" cy="19638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The Tunic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17160" y="2184120"/>
            <a:ext cx="5638680" cy="75690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712"/>
                </a:solidFill>
                <a:latin typeface="Arial Bold"/>
                <a:ea typeface="Arial Bold"/>
              </a:rPr>
              <a:t>Men wore it down to their Kn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9423360" y="4229280"/>
            <a:ext cx="2705040" cy="50115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546120" y="4013280"/>
            <a:ext cx="5308560" cy="530856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6718320" y="2273400"/>
            <a:ext cx="56768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308"/>
                </a:solidFill>
                <a:latin typeface="Arial Bold"/>
                <a:ea typeface="Arial Bold"/>
              </a:rPr>
              <a:t>Women wore it down to their ank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47640" y="415800"/>
            <a:ext cx="11709360" cy="162576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More Clothing…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47640" y="1955520"/>
            <a:ext cx="11709360" cy="73026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d90b00"/>
                </a:solidFill>
                <a:uFillTx/>
                <a:latin typeface="Arial Bold"/>
                <a:ea typeface="Arial Bold"/>
              </a:rPr>
              <a:t>Footwear</a:t>
            </a:r>
            <a:r>
              <a:rPr b="0" lang="en-US" sz="5000" spc="-1" strike="noStrike">
                <a:solidFill>
                  <a:srgbClr val="d90b00"/>
                </a:solidFill>
                <a:latin typeface="Arial Bold"/>
                <a:ea typeface="Arial Bold"/>
              </a:rPr>
              <a:t>: Barefoot or Sand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d90b00"/>
                </a:solidFill>
                <a:uFillTx/>
                <a:latin typeface="Arial Bold"/>
                <a:ea typeface="Arial Bold"/>
              </a:rPr>
              <a:t>Workers Clothing</a:t>
            </a:r>
            <a:r>
              <a:rPr b="0" lang="en-US" sz="5000" spc="-1" strike="noStrike">
                <a:solidFill>
                  <a:srgbClr val="d90b00"/>
                </a:solidFill>
                <a:latin typeface="Arial Bold"/>
                <a:ea typeface="Arial Bold"/>
              </a:rPr>
              <a:t>: loin clot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d90b00"/>
                </a:solidFill>
                <a:uFillTx/>
                <a:latin typeface="Arial Bold"/>
                <a:ea typeface="Arial Bold"/>
              </a:rPr>
              <a:t>Wealthy Clothing</a:t>
            </a:r>
            <a:r>
              <a:rPr b="0" lang="en-US" sz="5000" spc="-1" strike="noStrike">
                <a:solidFill>
                  <a:srgbClr val="d90b00"/>
                </a:solidFill>
                <a:latin typeface="Arial Bold"/>
                <a:ea typeface="Arial Bold"/>
              </a:rPr>
              <a:t>: Long Rob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d90b00"/>
                </a:solidFill>
                <a:uFillTx/>
                <a:latin typeface="Arial Bold"/>
                <a:ea typeface="Arial Bold"/>
              </a:rPr>
              <a:t>Priests</a:t>
            </a:r>
            <a:r>
              <a:rPr b="0" lang="en-US" sz="5000" spc="-1" strike="noStrike">
                <a:solidFill>
                  <a:srgbClr val="d90b00"/>
                </a:solidFill>
                <a:latin typeface="Arial Bold"/>
                <a:ea typeface="Arial Bold"/>
              </a:rPr>
              <a:t>: Leopard rob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170936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Appearance…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35040" y="1980720"/>
            <a:ext cx="4788000" cy="748044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2712"/>
                </a:solidFill>
                <a:latin typeface="Arial Bold"/>
                <a:ea typeface="Arial Bold"/>
              </a:rPr>
              <a:t>Men AND women BOTH: Wore Eyeshadow </a:t>
            </a:r>
            <a:r>
              <a:rPr b="0" lang="en-US" sz="5600" spc="-1" strike="noStrike">
                <a:solidFill>
                  <a:srgbClr val="ff2712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7226280" y="1511280"/>
            <a:ext cx="5473800" cy="6718320"/>
          </a:xfrm>
          <a:prstGeom prst="rect">
            <a:avLst/>
          </a:prstGeom>
          <a:ln w="0">
            <a:noFill/>
          </a:ln>
        </p:spPr>
      </p:pic>
      <p:sp>
        <p:nvSpPr>
          <p:cNvPr id="414" name="Freeform 4"/>
          <p:cNvSpPr/>
          <p:nvPr/>
        </p:nvSpPr>
        <p:spPr>
          <a:xfrm>
            <a:off x="7655040" y="2982960"/>
            <a:ext cx="1860480" cy="846000"/>
          </a:xfrm>
          <a:custGeom>
            <a:avLst/>
            <a:gdLst/>
            <a:ahLst/>
            <a:rect l="l" t="t" r="r" b="b"/>
            <a:pathLst>
              <a:path w="20691" h="21157">
                <a:moveTo>
                  <a:pt x="18136" y="20648"/>
                </a:moveTo>
                <a:cubicBezTo>
                  <a:pt x="17558" y="19800"/>
                  <a:pt x="16981" y="18782"/>
                  <a:pt x="16529" y="17538"/>
                </a:cubicBezTo>
                <a:cubicBezTo>
                  <a:pt x="16127" y="16407"/>
                  <a:pt x="16127" y="15785"/>
                  <a:pt x="15624" y="14937"/>
                </a:cubicBezTo>
                <a:cubicBezTo>
                  <a:pt x="15172" y="14202"/>
                  <a:pt x="14695" y="13580"/>
                  <a:pt x="14243" y="12902"/>
                </a:cubicBezTo>
                <a:cubicBezTo>
                  <a:pt x="13665" y="12053"/>
                  <a:pt x="12862" y="12562"/>
                  <a:pt x="12184" y="12393"/>
                </a:cubicBezTo>
                <a:cubicBezTo>
                  <a:pt x="10350" y="12562"/>
                  <a:pt x="8491" y="12619"/>
                  <a:pt x="6658" y="12902"/>
                </a:cubicBezTo>
                <a:cubicBezTo>
                  <a:pt x="6256" y="12958"/>
                  <a:pt x="5854" y="12958"/>
                  <a:pt x="5503" y="13410"/>
                </a:cubicBezTo>
                <a:cubicBezTo>
                  <a:pt x="5277" y="13693"/>
                  <a:pt x="5226" y="14428"/>
                  <a:pt x="5050" y="14937"/>
                </a:cubicBezTo>
                <a:cubicBezTo>
                  <a:pt x="4548" y="16351"/>
                  <a:pt x="3945" y="16973"/>
                  <a:pt x="3217" y="17538"/>
                </a:cubicBezTo>
                <a:cubicBezTo>
                  <a:pt x="2614" y="17369"/>
                  <a:pt x="1961" y="17538"/>
                  <a:pt x="1384" y="17029"/>
                </a:cubicBezTo>
                <a:cubicBezTo>
                  <a:pt x="1132" y="16803"/>
                  <a:pt x="1132" y="15898"/>
                  <a:pt x="931" y="15446"/>
                </a:cubicBezTo>
                <a:cubicBezTo>
                  <a:pt x="730" y="14994"/>
                  <a:pt x="454" y="14767"/>
                  <a:pt x="228" y="14428"/>
                </a:cubicBezTo>
                <a:cubicBezTo>
                  <a:pt x="153" y="13919"/>
                  <a:pt x="-23" y="13410"/>
                  <a:pt x="2" y="12902"/>
                </a:cubicBezTo>
                <a:cubicBezTo>
                  <a:pt x="253" y="5438"/>
                  <a:pt x="404" y="8604"/>
                  <a:pt x="2288" y="5155"/>
                </a:cubicBezTo>
                <a:cubicBezTo>
                  <a:pt x="4071" y="1932"/>
                  <a:pt x="4799" y="2045"/>
                  <a:pt x="7110" y="1536"/>
                </a:cubicBezTo>
                <a:cubicBezTo>
                  <a:pt x="9571" y="-443"/>
                  <a:pt x="7763" y="-160"/>
                  <a:pt x="12184" y="462"/>
                </a:cubicBezTo>
                <a:cubicBezTo>
                  <a:pt x="14168" y="1932"/>
                  <a:pt x="11706" y="-160"/>
                  <a:pt x="13314" y="2045"/>
                </a:cubicBezTo>
                <a:cubicBezTo>
                  <a:pt x="14293" y="3402"/>
                  <a:pt x="15599" y="2837"/>
                  <a:pt x="16755" y="3063"/>
                </a:cubicBezTo>
                <a:cubicBezTo>
                  <a:pt x="17433" y="3572"/>
                  <a:pt x="17709" y="3459"/>
                  <a:pt x="18136" y="5155"/>
                </a:cubicBezTo>
                <a:cubicBezTo>
                  <a:pt x="19116" y="9056"/>
                  <a:pt x="17960" y="7643"/>
                  <a:pt x="19291" y="8774"/>
                </a:cubicBezTo>
                <a:cubicBezTo>
                  <a:pt x="20623" y="11714"/>
                  <a:pt x="20271" y="10187"/>
                  <a:pt x="20673" y="12902"/>
                </a:cubicBezTo>
                <a:cubicBezTo>
                  <a:pt x="20447" y="20931"/>
                  <a:pt x="21577" y="21157"/>
                  <a:pt x="18362" y="21157"/>
                </a:cubicBezTo>
                <a:cubicBezTo>
                  <a:pt x="18262" y="21157"/>
                  <a:pt x="18211" y="20818"/>
                  <a:pt x="18136" y="20648"/>
                </a:cubicBezTo>
                <a:close/>
                <a:moveTo>
                  <a:pt x="18136" y="20648"/>
                </a:move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5"/>
          <p:cNvSpPr/>
          <p:nvPr/>
        </p:nvSpPr>
        <p:spPr>
          <a:xfrm>
            <a:off x="10509120" y="2982960"/>
            <a:ext cx="1687680" cy="885600"/>
          </a:xfrm>
          <a:custGeom>
            <a:avLst/>
            <a:gdLst/>
            <a:ahLst/>
            <a:rect l="l" t="t" r="r" b="b"/>
            <a:pathLst>
              <a:path w="20830" h="18434">
                <a:moveTo>
                  <a:pt x="932" y="17145"/>
                </a:moveTo>
                <a:cubicBezTo>
                  <a:pt x="1546" y="16157"/>
                  <a:pt x="1993" y="15310"/>
                  <a:pt x="2467" y="14134"/>
                </a:cubicBezTo>
                <a:cubicBezTo>
                  <a:pt x="2970" y="11451"/>
                  <a:pt x="4170" y="11687"/>
                  <a:pt x="5286" y="9804"/>
                </a:cubicBezTo>
                <a:cubicBezTo>
                  <a:pt x="8802" y="10087"/>
                  <a:pt x="10142" y="9945"/>
                  <a:pt x="12932" y="11122"/>
                </a:cubicBezTo>
                <a:cubicBezTo>
                  <a:pt x="15835" y="12345"/>
                  <a:pt x="12458" y="10557"/>
                  <a:pt x="15751" y="12392"/>
                </a:cubicBezTo>
                <a:cubicBezTo>
                  <a:pt x="16002" y="12534"/>
                  <a:pt x="16504" y="12816"/>
                  <a:pt x="16504" y="12816"/>
                </a:cubicBezTo>
                <a:cubicBezTo>
                  <a:pt x="16672" y="13098"/>
                  <a:pt x="16783" y="13522"/>
                  <a:pt x="17007" y="13710"/>
                </a:cubicBezTo>
                <a:cubicBezTo>
                  <a:pt x="17481" y="14134"/>
                  <a:pt x="18542" y="14557"/>
                  <a:pt x="18542" y="14557"/>
                </a:cubicBezTo>
                <a:cubicBezTo>
                  <a:pt x="18877" y="14416"/>
                  <a:pt x="19295" y="14510"/>
                  <a:pt x="19574" y="14134"/>
                </a:cubicBezTo>
                <a:cubicBezTo>
                  <a:pt x="20049" y="13475"/>
                  <a:pt x="19742" y="11969"/>
                  <a:pt x="20077" y="11122"/>
                </a:cubicBezTo>
                <a:cubicBezTo>
                  <a:pt x="20244" y="10698"/>
                  <a:pt x="20579" y="10557"/>
                  <a:pt x="20830" y="10275"/>
                </a:cubicBezTo>
                <a:cubicBezTo>
                  <a:pt x="20607" y="7687"/>
                  <a:pt x="20802" y="6510"/>
                  <a:pt x="19574" y="5098"/>
                </a:cubicBezTo>
                <a:cubicBezTo>
                  <a:pt x="18123" y="1522"/>
                  <a:pt x="20021" y="5851"/>
                  <a:pt x="18290" y="2934"/>
                </a:cubicBezTo>
                <a:cubicBezTo>
                  <a:pt x="18067" y="2557"/>
                  <a:pt x="18039" y="1992"/>
                  <a:pt x="17788" y="1663"/>
                </a:cubicBezTo>
                <a:cubicBezTo>
                  <a:pt x="17370" y="1098"/>
                  <a:pt x="16756" y="1098"/>
                  <a:pt x="16253" y="769"/>
                </a:cubicBezTo>
                <a:cubicBezTo>
                  <a:pt x="11928" y="957"/>
                  <a:pt x="7156" y="-1584"/>
                  <a:pt x="3249" y="1663"/>
                </a:cubicBezTo>
                <a:cubicBezTo>
                  <a:pt x="2495" y="2275"/>
                  <a:pt x="2077" y="3310"/>
                  <a:pt x="1183" y="3781"/>
                </a:cubicBezTo>
                <a:cubicBezTo>
                  <a:pt x="821" y="6369"/>
                  <a:pt x="1044" y="5004"/>
                  <a:pt x="430" y="8110"/>
                </a:cubicBezTo>
                <a:cubicBezTo>
                  <a:pt x="346" y="8534"/>
                  <a:pt x="179" y="9381"/>
                  <a:pt x="179" y="9381"/>
                </a:cubicBezTo>
                <a:cubicBezTo>
                  <a:pt x="430" y="18369"/>
                  <a:pt x="-770" y="20016"/>
                  <a:pt x="932" y="17145"/>
                </a:cubicBezTo>
                <a:close/>
                <a:moveTo>
                  <a:pt x="932" y="17145"/>
                </a:move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6"/>
          <p:cNvSpPr/>
          <p:nvPr/>
        </p:nvSpPr>
        <p:spPr>
          <a:xfrm>
            <a:off x="7532640" y="3720960"/>
            <a:ext cx="1798560" cy="252720"/>
          </a:xfrm>
          <a:custGeom>
            <a:avLst/>
            <a:gdLst/>
            <a:ahLst/>
            <a:rect l="l" t="t" r="r" b="b"/>
            <a:pathLst>
              <a:path w="21600" h="21053">
                <a:moveTo>
                  <a:pt x="21600" y="15892"/>
                </a:moveTo>
                <a:cubicBezTo>
                  <a:pt x="19185" y="16465"/>
                  <a:pt x="16770" y="16274"/>
                  <a:pt x="14382" y="17612"/>
                </a:cubicBezTo>
                <a:cubicBezTo>
                  <a:pt x="13866" y="17995"/>
                  <a:pt x="12917" y="21053"/>
                  <a:pt x="12917" y="21053"/>
                </a:cubicBezTo>
                <a:cubicBezTo>
                  <a:pt x="11750" y="20480"/>
                  <a:pt x="10583" y="20288"/>
                  <a:pt x="9443" y="19333"/>
                </a:cubicBezTo>
                <a:cubicBezTo>
                  <a:pt x="8602" y="18568"/>
                  <a:pt x="7978" y="13980"/>
                  <a:pt x="7191" y="12260"/>
                </a:cubicBezTo>
                <a:cubicBezTo>
                  <a:pt x="5536" y="4423"/>
                  <a:pt x="4233" y="4996"/>
                  <a:pt x="2225" y="3658"/>
                </a:cubicBezTo>
                <a:cubicBezTo>
                  <a:pt x="516" y="-547"/>
                  <a:pt x="1275" y="26"/>
                  <a:pt x="0" y="26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7"/>
          <p:cNvSpPr/>
          <p:nvPr/>
        </p:nvSpPr>
        <p:spPr>
          <a:xfrm>
            <a:off x="10609200" y="3703680"/>
            <a:ext cx="1900440" cy="268200"/>
          </a:xfrm>
          <a:custGeom>
            <a:avLst/>
            <a:gdLst/>
            <a:ahLst/>
            <a:rect l="l" t="t" r="r" b="b"/>
            <a:pathLst>
              <a:path w="18808" h="20667">
                <a:moveTo>
                  <a:pt x="0" y="16026"/>
                </a:moveTo>
                <a:cubicBezTo>
                  <a:pt x="6299" y="21426"/>
                  <a:pt x="-2792" y="21600"/>
                  <a:pt x="11236" y="19161"/>
                </a:cubicBezTo>
                <a:cubicBezTo>
                  <a:pt x="11816" y="16200"/>
                  <a:pt x="12241" y="12019"/>
                  <a:pt x="12866" y="9581"/>
                </a:cubicBezTo>
                <a:cubicBezTo>
                  <a:pt x="13157" y="8535"/>
                  <a:pt x="14028" y="6968"/>
                  <a:pt x="14296" y="6445"/>
                </a:cubicBezTo>
                <a:cubicBezTo>
                  <a:pt x="15860" y="2961"/>
                  <a:pt x="17133" y="0"/>
                  <a:pt x="18808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8" descr=""/>
          <p:cNvPicPr/>
          <p:nvPr/>
        </p:nvPicPr>
        <p:blipFill>
          <a:blip r:embed="rId2"/>
          <a:stretch/>
        </p:blipFill>
        <p:spPr>
          <a:xfrm>
            <a:off x="6934320" y="6381720"/>
            <a:ext cx="6070320" cy="33717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9"/>
          <p:cNvSpPr/>
          <p:nvPr/>
        </p:nvSpPr>
        <p:spPr>
          <a:xfrm>
            <a:off x="7616880" y="3478320"/>
            <a:ext cx="1650960" cy="390240"/>
          </a:xfrm>
          <a:custGeom>
            <a:avLst/>
            <a:gdLst/>
            <a:ahLst/>
            <a:rect l="l" t="t" r="r" b="b"/>
            <a:pathLst>
              <a:path w="21600" h="17537">
                <a:moveTo>
                  <a:pt x="21600" y="17537"/>
                </a:moveTo>
                <a:cubicBezTo>
                  <a:pt x="20359" y="11118"/>
                  <a:pt x="18616" y="5107"/>
                  <a:pt x="16754" y="828"/>
                </a:cubicBezTo>
                <a:cubicBezTo>
                  <a:pt x="13504" y="2050"/>
                  <a:pt x="8303" y="-4063"/>
                  <a:pt x="6471" y="5412"/>
                </a:cubicBezTo>
                <a:cubicBezTo>
                  <a:pt x="5851" y="11933"/>
                  <a:pt x="6471" y="10405"/>
                  <a:pt x="5112" y="11933"/>
                </a:cubicBezTo>
                <a:cubicBezTo>
                  <a:pt x="177" y="11016"/>
                  <a:pt x="1891" y="11016"/>
                  <a:pt x="0" y="11016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0"/>
          <p:cNvSpPr/>
          <p:nvPr/>
        </p:nvSpPr>
        <p:spPr>
          <a:xfrm>
            <a:off x="10631520" y="3519360"/>
            <a:ext cx="1898640" cy="29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259" y="16031"/>
                  <a:pt x="2209" y="8269"/>
                  <a:pt x="3031" y="0"/>
                </a:cubicBezTo>
                <a:cubicBezTo>
                  <a:pt x="5933" y="506"/>
                  <a:pt x="8835" y="506"/>
                  <a:pt x="11737" y="1519"/>
                </a:cubicBezTo>
                <a:cubicBezTo>
                  <a:pt x="12405" y="1688"/>
                  <a:pt x="12585" y="4388"/>
                  <a:pt x="13150" y="6075"/>
                </a:cubicBezTo>
                <a:cubicBezTo>
                  <a:pt x="13587" y="7425"/>
                  <a:pt x="14537" y="9281"/>
                  <a:pt x="14537" y="9281"/>
                </a:cubicBezTo>
                <a:cubicBezTo>
                  <a:pt x="16386" y="20756"/>
                  <a:pt x="19186" y="12319"/>
                  <a:pt x="21600" y="12319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ppearance Continued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712"/>
                </a:solidFill>
                <a:latin typeface="Arial Bold"/>
                <a:ea typeface="Arial Bold"/>
              </a:rPr>
              <a:t>ONLY Men: No Face 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712"/>
                </a:solidFill>
                <a:latin typeface="Arial Bold"/>
                <a:ea typeface="Arial Bold"/>
              </a:rPr>
              <a:t>ONLY Women: Hair down to Shou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712"/>
                </a:solidFill>
                <a:latin typeface="Arial Bold"/>
                <a:ea typeface="Arial Bold"/>
              </a:rPr>
              <a:t>ONLY Wom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712"/>
                </a:solidFill>
                <a:latin typeface="Arial Bold"/>
                <a:ea typeface="Arial Bold"/>
              </a:rPr>
              <a:t>Scented Fat 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712"/>
                </a:solidFill>
                <a:latin typeface="Arial Bold"/>
                <a:ea typeface="Arial Bold"/>
              </a:rPr>
              <a:t>hea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old"/>
                <a:ea typeface="Arial Bold"/>
              </a:rPr>
              <a:t>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1"/>
          <a:stretch/>
        </p:blipFill>
        <p:spPr>
          <a:xfrm>
            <a:off x="5524560" y="4114800"/>
            <a:ext cx="7149960" cy="53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44fe"/>
                </a:solidFill>
                <a:latin typeface="Arial"/>
              </a:rPr>
              <a:t>Women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616440" y="2273400"/>
            <a:ext cx="574020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gyptian wife and mother were respected in this ancient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wives and mothers of pharaohs were secretly the "real" ruling power i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ers did not know abou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"/>
              </a:rPr>
              <a:t>Were treated equally as men in many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"/>
              </a:rPr>
              <a:t>Owned land, took part in business d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"/>
              </a:rPr>
              <a:t>Punished the same way as men 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en Hatshepsut was the only woman who stood out of the line when she announced herself pharao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1"/>
          <a:stretch/>
        </p:blipFill>
        <p:spPr>
          <a:xfrm>
            <a:off x="1044720" y="2008080"/>
            <a:ext cx="4979880" cy="6042240"/>
          </a:xfrm>
          <a:prstGeom prst="rect">
            <a:avLst/>
          </a:prstGeom>
          <a:ln w="50760">
            <a:solidFill>
              <a:srgbClr val="808080"/>
            </a:solidFill>
            <a:miter/>
          </a:ln>
        </p:spPr>
      </p:pic>
      <p:sp>
        <p:nvSpPr>
          <p:cNvPr id="427" name="Rectangle 4"/>
          <p:cNvSpPr/>
          <p:nvPr/>
        </p:nvSpPr>
        <p:spPr>
          <a:xfrm>
            <a:off x="665280" y="8358120"/>
            <a:ext cx="5765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statue of QueenHatshepsut. Displayed at the Metropolitian Museum of Ar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 15: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 16: Daily Life 1 c-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1065060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AEC2-1BBE-45E3-A90E-FE462DC2AC0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47640" y="390240"/>
            <a:ext cx="11709360" cy="1625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44fe"/>
                </a:solidFill>
                <a:latin typeface="Arial"/>
              </a:rPr>
              <a:t>Children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603840" y="1701720"/>
            <a:ext cx="5740560" cy="7680240"/>
          </a:xfrm>
          <a:prstGeom prst="rect">
            <a:avLst/>
          </a:prstGeom>
          <a:noFill/>
          <a:ln w="0">
            <a:noFill/>
          </a:ln>
        </p:spPr>
        <p:txBody>
          <a:bodyPr lIns="12600" rIns="-5760" tIns="12600" bIns="12600" anchor="t">
            <a:normAutofit/>
          </a:bodyPr>
          <a:p>
            <a:pPr marL="407880" indent="-34272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0b00"/>
                </a:solidFill>
                <a:latin typeface="Arial"/>
              </a:rPr>
              <a:t>Boys learned a job from their fa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0b00"/>
                </a:solidFill>
                <a:latin typeface="Arial"/>
              </a:rPr>
              <a:t>Girls trained at home with their m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0b00"/>
                </a:solidFill>
                <a:latin typeface="Arial"/>
              </a:rPr>
              <a:t>Families that could afford sent their sons (age 7) to school</a:t>
            </a:r>
            <a:r>
              <a:rPr b="0" lang="en-US" sz="2200" spc="-1" strike="noStrike">
                <a:solidFill>
                  <a:srgbClr val="fe494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would study religion, reading, writing, and arithmetic t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80000"/>
              </a:lnSpc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2712"/>
                </a:solidFill>
                <a:latin typeface="Arial"/>
              </a:rPr>
              <a:t>no schools for gi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355680" y="3033720"/>
            <a:ext cx="5783040" cy="38178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4"/>
          <p:cNvSpPr/>
          <p:nvPr/>
        </p:nvSpPr>
        <p:spPr>
          <a:xfrm>
            <a:off x="561960" y="7027920"/>
            <a:ext cx="529596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verybody could afford expensive toys. Clay was formed into dolls, toy animals and other play things because it was available from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his is a clay c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93760" y="329760"/>
            <a:ext cx="11049120" cy="208908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aily Life of Ancient Egyp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863640" y="2487600"/>
            <a:ext cx="1133784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Life in Ancient Egypt Centered aroun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330120" y="3137040"/>
            <a:ext cx="4734000" cy="3547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"/>
          <p:cNvPicPr/>
          <p:nvPr/>
        </p:nvPicPr>
        <p:blipFill>
          <a:blip r:embed="rId2"/>
          <a:stretch/>
        </p:blipFill>
        <p:spPr>
          <a:xfrm>
            <a:off x="7264440" y="2921040"/>
            <a:ext cx="5337000" cy="41036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"/>
          <p:cNvPicPr/>
          <p:nvPr/>
        </p:nvPicPr>
        <p:blipFill>
          <a:blip r:embed="rId3"/>
          <a:stretch/>
        </p:blipFill>
        <p:spPr>
          <a:xfrm>
            <a:off x="4229280" y="5689440"/>
            <a:ext cx="4063680" cy="406404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6"/>
          <p:cNvSpPr/>
          <p:nvPr/>
        </p:nvSpPr>
        <p:spPr>
          <a:xfrm>
            <a:off x="9867960" y="6934320"/>
            <a:ext cx="3187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90b00"/>
                </a:solidFill>
                <a:latin typeface="Arial"/>
                <a:ea typeface="Arial"/>
              </a:rPr>
              <a:t>Pharao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1270080" y="6794640"/>
            <a:ext cx="3187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90b00"/>
                </a:solidFill>
                <a:latin typeface="Arial"/>
                <a:ea typeface="Arial"/>
              </a:rPr>
              <a:t>Famil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65280" y="0"/>
            <a:ext cx="11709360" cy="162576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Family Lif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791040" y="1929960"/>
            <a:ext cx="5753160" cy="748044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oved thei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</a:rPr>
              <a:t>lower class= mother raised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</a:rPr>
              <a:t>wealthy families= slaves, servants that assisted m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family could not have children, they would pray to the gods all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Arial"/>
              </a:rPr>
              <a:t>They would also use magic to try to get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uld also adopt if they wanted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879480" y="1600200"/>
            <a:ext cx="5613480" cy="73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9880" y="372960"/>
            <a:ext cx="11709720" cy="171144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Peasant Life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4480" y="1625760"/>
            <a:ext cx="4114800" cy="35179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 Bold"/>
                <a:ea typeface="Arial Bold"/>
              </a:rPr>
              <a:t>Farm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4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 Bold"/>
                <a:ea typeface="Arial Bold"/>
              </a:rPr>
              <a:t>Grain makes B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4038480" y="1714680"/>
            <a:ext cx="355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2712"/>
                </a:solidFill>
                <a:latin typeface="Arial Bold"/>
                <a:ea typeface="Arial Bold"/>
              </a:rPr>
              <a:t>Diet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44680" indent="-487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2712"/>
                </a:solidFill>
                <a:latin typeface="Arial Bold"/>
                <a:ea typeface="Arial Bold"/>
              </a:rPr>
              <a:t>Veggies and Gra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8763120" y="1778040"/>
            <a:ext cx="355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90b00"/>
                </a:solidFill>
                <a:latin typeface="Arial Bold"/>
                <a:ea typeface="Arial Bold"/>
              </a:rPr>
              <a:t>Heavy-Tax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0" y="3746520"/>
            <a:ext cx="4229280" cy="5143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"/>
          <p:cNvPicPr/>
          <p:nvPr/>
        </p:nvPicPr>
        <p:blipFill>
          <a:blip r:embed="rId2"/>
          <a:stretch/>
        </p:blipFill>
        <p:spPr>
          <a:xfrm>
            <a:off x="4013280" y="6040440"/>
            <a:ext cx="4949640" cy="3713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"/>
          <p:cNvPicPr/>
          <p:nvPr/>
        </p:nvPicPr>
        <p:blipFill>
          <a:blip r:embed="rId3"/>
          <a:stretch/>
        </p:blipFill>
        <p:spPr>
          <a:xfrm>
            <a:off x="4254480" y="3606840"/>
            <a:ext cx="3805200" cy="2525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"/>
          <p:cNvPicPr/>
          <p:nvPr/>
        </p:nvPicPr>
        <p:blipFill>
          <a:blip r:embed="rId4"/>
          <a:stretch/>
        </p:blipFill>
        <p:spPr>
          <a:xfrm>
            <a:off x="8242200" y="2817720"/>
            <a:ext cx="4762440" cy="465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Homes of Ancient Egypt</a:t>
            </a:r>
            <a:r>
              <a:rPr b="0" lang="en-US" sz="6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863640" y="4546440"/>
            <a:ext cx="5423040" cy="40640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6718320" y="4546440"/>
            <a:ext cx="5854680" cy="35323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4"/>
          <p:cNvSpPr/>
          <p:nvPr/>
        </p:nvSpPr>
        <p:spPr>
          <a:xfrm>
            <a:off x="1306440" y="2755800"/>
            <a:ext cx="109872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d90b00"/>
                </a:solidFill>
                <a:latin typeface="Arial Bold"/>
                <a:ea typeface="Arial Bold"/>
              </a:rPr>
              <a:t>Straw and Mud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Homes Continued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47640" y="2273040"/>
            <a:ext cx="1170936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ze: Hug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Roofs: Flat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Unique Doors: 4 feet off the ground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y??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3681360" y="5956200"/>
            <a:ext cx="9361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Reduce sand and water from coming into your house from the Ni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ore about Homes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Homes of the Nobles: 25-30 ro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Homes of the Peasants: Small but 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Unique Sleeping: Slept on Roo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Big were Homes? </a:t>
            </a:r>
            <a:r>
              <a:rPr b="1" lang="en-US" sz="4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s big as you wanted. Easy to get materia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365640" y="4991040"/>
            <a:ext cx="8826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 Bold"/>
                <a:ea typeface="Arial Bold"/>
              </a:rPr>
              <a:t>Cooler Temperatu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yler Daughtry</cp:lastModifiedBy>
  <dcterms:modified xsi:type="dcterms:W3CDTF">2013-10-10T14:57:42Z</dcterms:modified>
  <cp:revision>7</cp:revision>
  <dc:subject/>
  <dc:title>Bell Ringer: 10-8</dc:title>
</cp:coreProperties>
</file>